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70D0-0F7D-4367-B4FA-E34C22FC2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344D-1FBB-4557-B962-9F3BEB8CA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6C0C-A02A-4CBD-BEDA-889C3D5F3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23CA-251C-49CB-A89A-69E937D70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1B166-E468-4360-ABA9-0126D9FBB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446C9-DCC1-4C99-B077-38C7511A4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D5660-E21D-4047-90A3-4CC5A16AD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C089E-4F40-4D42-82EA-53AFB6666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A8F55-839A-453D-8597-A21D822C0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F1C1E-0BFB-410D-B079-483DBFC2D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23898-2FF9-413F-9985-576541CEA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56C3-67B3-43AB-89B4-DC4C4C429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D157F-D575-4CE6-A5A1-1775FCE1B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2F1E0-6363-4F64-9813-94A7980F3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DFCB2-D219-4B2E-85D6-97068DEE0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6272C-CF38-4864-BC41-8CC23945D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9DD17-E7F9-46DC-9195-5AB1DD084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9D45-A47C-4457-88FD-E68D096AF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5B4B-A1A0-4507-A295-4B26B777E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D08B-C4BC-4AC9-AA28-5CC592211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92C8-8427-4FA8-BCED-844ADF8CB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40EC-B150-4DE3-B399-F7E42B8B3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DF74-1380-44CE-B009-8B467D68D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D007-35ED-421C-87D4-BA82AF32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BB38E-021E-48CE-BE0B-0DC641C41A0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9E5BF-65E7-41DA-9578-8EE93D365D5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e Respiratory System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205740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ath of 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76720" y="5867280"/>
            <a:ext cx="2361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962520" y="1295280"/>
            <a:ext cx="4657680" cy="35337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809880" y="4191120"/>
            <a:ext cx="12956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388620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Bronchi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2514600"/>
            <a:ext cx="9903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Bronch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90720" y="4483080"/>
            <a:ext cx="7391160" cy="240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ells that line the bronchi and trachea secrete mucus that traps dust and other particles in the 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lveoli are surrounded by capill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Breath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240" y="5105520"/>
            <a:ext cx="4267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action of the diaphragm and rib cage enlarge the chest cavity and reduce the air pressure in the chest.  Air rushes into the lu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24280" y="5028840"/>
            <a:ext cx="41911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xation of the diaphragm and rib cage collapse the chest cavity and increase the pressure inside the chest.  Air rushes out of the lung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590920" y="2666880"/>
            <a:ext cx="3733560" cy="21733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80880" y="44956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ha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77120" y="44197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ha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62120" y="1600200"/>
            <a:ext cx="7772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1752480"/>
            <a:ext cx="8001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ungs are not made of muscle and cannot contract and rela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r moves from an area of high pressure to an area of low pres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520" y="99036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hy is it harder to breathe at high altitudes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3124080"/>
            <a:ext cx="8229600" cy="31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cccc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centration of oxygen is low so that a person has to breathe more deeply and more quickly to take in the same amount of oxygen as a person who is at sea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cc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ir pressure at high altitudes is low, so air is not forced into the lu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943600" y="380880"/>
            <a:ext cx="266688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Breathing Rat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35809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 demand for oxygen in the blood is high (during exercise) breathing rate increa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aste products (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in the blood are high breathing rate incr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1828800"/>
            <a:ext cx="7238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The brain sends signals to the diaphragm and rib muscles to speed up breathing under certain condi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Gas Exchange and Transpor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495680" y="1752480"/>
            <a:ext cx="4021200" cy="4610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8" name=""/>
          <p:cNvGraphicFramePr/>
          <p:nvPr/>
        </p:nvGraphicFramePr>
        <p:xfrm>
          <a:off x="304920" y="3200400"/>
          <a:ext cx="3961800" cy="2438280"/>
        </p:xfrm>
        <a:graphic>
          <a:graphicData uri="http://schemas.openxmlformats.org/drawingml/2006/table">
            <a:tbl>
              <a:tblPr/>
              <a:tblGrid>
                <a:gridCol w="1709280"/>
                <a:gridCol w="1165320"/>
                <a:gridCol w="1087200"/>
              </a:tblGrid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ssu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380880" y="1523880"/>
            <a:ext cx="3810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160020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xygen is transported bound to hemoglobin inside red blood cells and carbon dioxide is transported in plas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4T01:24:39Z</dcterms:created>
  <dc:creator>Dawn Pav</dc:creator>
  <dc:description/>
  <dc:language>en-US</dc:language>
  <cp:lastModifiedBy>Dawn Pav</cp:lastModifiedBy>
  <dcterms:modified xsi:type="dcterms:W3CDTF">2009-01-14T03:57:00Z</dcterms:modified>
  <cp:revision>2</cp:revision>
  <dc:subject/>
  <dc:title>The Respiratory System</dc:title>
</cp:coreProperties>
</file>